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move the slide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E289-4443-4FBE-B4AA-9325E610CC0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ение двузначных чисел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урок - сказка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FD32-EC98-4D6A-8A5E-ADA3E17270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акие геометрические фигуры вы здесь видите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читайте только треугольн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BEB63-5F71-40E7-9EB3-BD2CB425E54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Благодарим за помощ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C0E35-BE5C-419E-969E-3873D02E8AF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,  9,  10,  6,  3,  8,  3,  7,  9,  7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3FA4E-9B58-415B-AF65-ADA7255843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8       53        39      75     56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3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+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32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-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2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5A00-F0DE-4917-9CA6-1277BC81BD1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1,     80,     74,     43,     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A5DA-DE76-4EF1-A88B-996ECF3A5C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000D-088D-43C2-8126-22669FC992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: 4 пирожка, по 2 пирож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2D228-2B23-4C87-B920-EEF877D4D8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 см   …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2 см   …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0 см   …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0E98-6548-49C3-8A7F-F9C78470B8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0 см    &lt;   4 дм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5 см    &lt;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см    &gt;   2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0 см    =   6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F8E1-D139-4171-9C44-281982D8F94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A2A-05CA-4F16-B320-C6024580D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F10B-0DE8-482F-A56B-11697D96E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4DC-7C6A-4AA2-AFC0-C07793689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73F3-5F73-4322-AB60-BBADF8E25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2F7FA-5B8D-4201-B69B-DEAC62668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0C2995-A287-435A-9817-C1AFFA6E8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0B8607-3C04-4AE0-80EF-B90363CE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6DC8C-BD57-4033-98CF-1EBF453F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AF3DC-EEB8-44BA-9ED0-2059553C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34E94A-9965-43C2-B804-A3B1C5F9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8350AB-F5AA-4C2D-A32D-B0FCA4A74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768-77E5-469E-A498-0B985A635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7C3B31-28CC-47D7-877F-F58D36F5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FB685-B37D-4C45-986F-DFEF2C51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1CB14-DE39-437F-A955-E69D25FF9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C2B914-998B-4BFC-B3CF-87D265313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ADFC2A-8341-4B77-9B4F-DB8829E2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AC9635-C15B-48E9-B33F-70A65DAE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67C98C-0FC8-41D6-AF53-3B885935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31F1CB-E078-4E4C-B966-A4152D8AF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C90F6C-F561-4775-B076-32B1C091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018692-4FF7-47A2-8DED-1230BDC9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D261-1F98-42B9-AB00-3455F3CA7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36472D-CA45-4CEB-A33B-4B708542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80FC0-3440-4617-B92F-1034F539B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F99D18-8560-4298-B5A2-293F94E2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55830-F16F-4891-A67C-F375D467C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1B7943-1DA3-4049-A0F4-FC7761A5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409A95-5E7F-462A-88B1-6842064AF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8DB475-A6DF-4C05-B3D7-61935898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D4D00A-F49D-415D-9491-44CF803F6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D6D4B1-4235-4CC8-8CA3-0C8246A7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E6C485-55C1-4BE7-9FE0-403ED648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CC49-5E35-4D8A-A7C0-F724FD980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D6B08D-5D6D-4D6A-8006-0660F4B9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593FD0-84D3-43FC-8357-8C70A00FB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1BE6B1-7028-45E6-B1AA-E526099D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20E8DD8-9CA7-40CD-911C-E9C40F78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DC72A7-BA37-47CE-9EA0-3865775F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CEF9A42-0270-4A92-BFE7-6AD1F91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129CF5-8475-40F0-B42D-EDC687BE7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B48679-5378-43BB-99A8-D369F644F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6C321-81B0-476B-801E-A70499BCE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442B3-772F-420E-8E86-1DA88B7B7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E01D-C76C-449C-AF6A-5D050D5D5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64712A-44BA-4D09-85F5-178A9CBA6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09DE85-60A0-477B-819F-4D125498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4DE3A4-36E0-4A46-A6EB-BB5801C1A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8A801-741A-4E11-8271-921D1AD26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F9BB5D-7DD1-4B30-B530-13127442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A7D673-7DA3-43F0-BBFF-F090772B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6006AB-17A1-4532-B80A-67C404B2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92CDB1-E164-4CCC-8B4B-9D94F2D8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8C9859-7402-473C-9705-6FD9D1CC7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13A2F-659A-4D18-A61B-68394894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F208-E117-4F64-92C3-E2AA5410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B9C4FB-6DFC-4F6A-BE41-C3681F4A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47CF7-1310-45BA-A7E4-6B289D3F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A4185A-FD53-48A1-9EA4-BEE5A265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E3F71A-D284-42FC-8931-491935E8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E9213C-5D5A-4391-A662-993FE359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1ACB5A-085F-4F5E-A004-A8446E4D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BDC72-1943-415E-AD75-D6A803D6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E5F0C-8B2C-4B5D-85BF-5C225DF0B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4F6D7A-65D1-46C2-A8C0-64A317D7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3F1195-3C77-4D90-B720-B5FBBDC0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BD5B-31F3-4D12-8C51-55A05127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747BCD-465B-4C6C-8A5F-ED9F3BDB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61881C1-FB76-41F9-B4FD-7E2AA1B4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79787-CC84-46E9-8BFF-09DA55902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FFFB-B517-4779-8DB3-7A185C35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2D5F-C8BD-4C4F-9DBC-06E11766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9CF0B-8389-45F4-BEC4-FEEE0BEB7021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570FC-93B1-47DC-B0D4-60AE2D7A24FE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D3E7-AC41-49CF-99AC-0A49E5288B95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E8C37-7CBC-454F-9322-4745DCBBA898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D7B3-4BEB-4351-84B1-984A8A4076C2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487BA-B27C-4E5D-864E-01F0102AF547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05B0-E1BA-4498-8948-2004246E9051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97ED-424D-4B2A-89DB-AD3A9DFF3A47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7746-32A1-4953-B017-F3CC5FAEC04D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D8079-7126-4F35-BEE4-8B508FAEC389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60600" y="811080"/>
            <a:ext cx="6870600" cy="6162840"/>
            <a:chOff x="1560600" y="811080"/>
            <a:chExt cx="6870600" cy="61628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60600" y="811080"/>
              <a:ext cx="6870600" cy="616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1800" cy="5383080"/>
            <a:chOff x="152280" y="712800"/>
            <a:chExt cx="4681800" cy="538308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1800" cy="538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46160"/>
            <a:ext cx="6070320" cy="5278680"/>
            <a:chOff x="3481560" y="-146160"/>
            <a:chExt cx="6070320" cy="527868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46160"/>
              <a:ext cx="6070320" cy="527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490F-F1F9-4E3F-980C-83A85EFC3EB1}" type="datetime">
              <a:rPr b="0" lang="ru-RU" sz="1100" spc="-1" strike="noStrike">
                <a:solidFill>
                  <a:srgbClr val="ffffff"/>
                </a:solidFill>
                <a:latin typeface="Palatino Linotype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CCAC6-0955-44C2-A516-4EC2E5AECB29}" type="slidenum">
              <a:rPr b="0" lang="ru-RU" sz="1600" spc="-1" strike="noStrike">
                <a:solidFill>
                  <a:srgbClr val="ffffff"/>
                </a:solidFill>
                <a:latin typeface="Palatino Linotype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Palatino Linotype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712000" cy="115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Сложение двузначных чисел</a:t>
            </a:r>
            <a:br>
              <a:rPr sz="4900"/>
            </a:br>
            <a:r>
              <a:rPr b="0" lang="ru-RU" sz="2500" spc="-1" strike="noStrike">
                <a:solidFill>
                  <a:srgbClr val="ffffff"/>
                </a:solidFill>
                <a:latin typeface="Palatino Linotype"/>
              </a:rPr>
              <a:t>урок - сказка </a:t>
            </a:r>
            <a:endParaRPr b="0" lang="en-US" sz="25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23640" y="2145960"/>
            <a:ext cx="215640" cy="423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Palatino Linotype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1"/>
          <a:stretch/>
        </p:blipFill>
        <p:spPr>
          <a:xfrm>
            <a:off x="324000" y="3213000"/>
            <a:ext cx="3508200" cy="2617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" descr=""/>
          <p:cNvPicPr/>
          <p:nvPr/>
        </p:nvPicPr>
        <p:blipFill>
          <a:blip r:embed="rId2"/>
          <a:stretch/>
        </p:blipFill>
        <p:spPr>
          <a:xfrm>
            <a:off x="4427640" y="3213000"/>
            <a:ext cx="2232000" cy="2617920"/>
          </a:xfrm>
          <a:prstGeom prst="rect">
            <a:avLst/>
          </a:prstGeom>
          <a:ln w="0">
            <a:noFill/>
          </a:ln>
        </p:spPr>
      </p:pic>
      <p:sp>
        <p:nvSpPr>
          <p:cNvPr id="323" name="Прямоугольник 3"/>
          <p:cNvSpPr/>
          <p:nvPr/>
        </p:nvSpPr>
        <p:spPr>
          <a:xfrm>
            <a:off x="3832200" y="1700280"/>
            <a:ext cx="488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Презентацию подготовил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МБОУ СОШ № 4 г.Радужный ХМАО-Юг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Гуртовенко Наталия Анатольев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4" name="Місце для нижнього колонтитула 3" descr=""/>
          <p:cNvPicPr/>
          <p:nvPr/>
        </p:nvPicPr>
        <p:blipFill>
          <a:blip r:embed="rId3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Какие геометрические фигуры вы здесь видите?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- Сосчитайте только треугольников.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105080" cy="3486240"/>
          </a:xfrm>
          <a:prstGeom prst="rect">
            <a:avLst/>
          </a:prstGeom>
          <a:ln w="0">
            <a:noFill/>
          </a:ln>
        </p:spPr>
      </p:pic>
      <p:pic>
        <p:nvPicPr>
          <p:cNvPr id="355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3765600" cy="273528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-Благодарим за помощь!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8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216920" cy="5400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2133720" y="4292280"/>
            <a:ext cx="4959360" cy="50760"/>
          </a:xfrm>
          <a:prstGeom prst="rect">
            <a:avLst/>
          </a:prstGeom>
          <a:noFill/>
          <a:ln w="0">
            <a:noFill/>
          </a:ln>
        </p:spPr>
        <p:txBody>
          <a:bodyPr tIns="5040" bIns="5040" anchor="ctr">
            <a:normAutofit/>
          </a:bodyPr>
          <a:p>
            <a:pPr marL="272880" indent="-255240">
              <a:lnSpc>
                <a:spcPct val="80000"/>
              </a:lnSpc>
              <a:spcBef>
                <a:spcPts val="125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28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2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2727360" cy="302580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11280" y="4508640"/>
            <a:ext cx="81374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9,  9,  10,  6,  3,  8,  3,  7,  9,  7к.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1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2" descr=""/>
          <p:cNvPicPr/>
          <p:nvPr/>
        </p:nvPicPr>
        <p:blipFill>
          <a:blip r:embed="rId1"/>
          <a:stretch/>
        </p:blipFill>
        <p:spPr>
          <a:xfrm>
            <a:off x="2771640" y="476280"/>
            <a:ext cx="3360960" cy="252108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9280" y="4076640"/>
            <a:ext cx="7993080" cy="24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28       53        39      75     56</a:t>
            </a:r>
            <a:br>
              <a:rPr sz="4900"/>
            </a:b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3 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7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  +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5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 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32</a:t>
            </a: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    -</a:t>
            </a:r>
            <a:r>
              <a:rPr b="0" lang="ru-RU" sz="4900" spc="-1" strike="noStrike" u="sng">
                <a:solidFill>
                  <a:srgbClr val="ffffff"/>
                </a:solidFill>
                <a:uFillTx/>
                <a:latin typeface="Palatino Linotype"/>
              </a:rPr>
              <a:t>24</a:t>
            </a:r>
            <a:br>
              <a:rPr sz="4900"/>
            </a:b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4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2" descr=""/>
          <p:cNvPicPr/>
          <p:nvPr/>
        </p:nvPicPr>
        <p:blipFill>
          <a:blip r:embed="rId1"/>
          <a:stretch/>
        </p:blipFill>
        <p:spPr>
          <a:xfrm>
            <a:off x="2124000" y="476280"/>
            <a:ext cx="4248360" cy="409896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755280" y="5229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61,     80,     74,     43,     32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7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"/>
          <p:cNvPicPr/>
          <p:nvPr/>
        </p:nvPicPr>
        <p:blipFill>
          <a:blip r:embed="rId1"/>
          <a:stretch/>
        </p:blipFill>
        <p:spPr>
          <a:xfrm>
            <a:off x="2627280" y="333360"/>
            <a:ext cx="4157640" cy="295128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77600" y="3715920"/>
            <a:ext cx="7543800" cy="273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Palatino Linotype"/>
              </a:rPr>
              <a:t>Испекла я нынче 13 пирожков. Прискакал ко мне Зайка и съел 4 пирожка, а потом прибежал Волк и съел еще 5 пирожков. Сколько пирожков у меня осталось? А по сколько достанется вам?</a:t>
            </a:r>
            <a:endParaRPr b="0" lang="en-US" sz="32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"/>
          <p:cNvPicPr/>
          <p:nvPr/>
        </p:nvPicPr>
        <p:blipFill>
          <a:blip r:embed="rId1"/>
          <a:stretch/>
        </p:blipFill>
        <p:spPr>
          <a:xfrm>
            <a:off x="2340000" y="260280"/>
            <a:ext cx="4248000" cy="30877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280" y="4292280"/>
            <a:ext cx="828036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Palatino Linotype"/>
              </a:rPr>
              <a:t>Ответ: 4 пирожка, по 2 пирожка.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Місце для нижнього колонтитула 2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280" y="476280"/>
            <a:ext cx="7689960" cy="386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40 см   …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5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52 см   …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60 см   …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5435640" y="2347920"/>
            <a:ext cx="3163680" cy="3798720"/>
          </a:xfrm>
          <a:prstGeom prst="rect">
            <a:avLst/>
          </a:prstGeom>
          <a:ln w="0">
            <a:noFill/>
          </a:ln>
        </p:spPr>
      </p:pic>
      <p:pic>
        <p:nvPicPr>
          <p:cNvPr id="347" name="Місце для нижнього колонтитула 3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9" name="Picture 2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3168720" cy="38023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611280" y="404280"/>
            <a:ext cx="5184720" cy="393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40 см    &lt;   4 дм 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5 см    &lt;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52 см    &gt;   25 с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Palatino Linotype"/>
              </a:rPr>
              <a:t>60 см    =   6 дм</a:t>
            </a: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  <a:p>
            <a:pPr marL="15840">
              <a:spcBef>
                <a:spcPts val="1100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Місце для нижнього колонтитула 1" descr=""/>
          <p:cNvPicPr/>
          <p:nvPr/>
        </p:nvPicPr>
        <p:blipFill>
          <a:blip r:embed="rId2"/>
          <a:stretch/>
        </p:blipFill>
        <p:spPr>
          <a:xfrm>
            <a:off x="822240" y="6151680"/>
            <a:ext cx="457200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27:49Z</dcterms:created>
  <dc:creator>User</dc:creator>
  <dc:description/>
  <dc:language>en-US</dc:language>
  <cp:lastModifiedBy>LEGION</cp:lastModifiedBy>
  <dcterms:modified xsi:type="dcterms:W3CDTF">2015-01-26T12:32:13Z</dcterms:modified>
  <cp:revision>22</cp:revision>
  <dc:subject/>
  <dc:title>Сложение двузначных чисел по мотиву сказки «Гуси-Лебеди»</dc:title>
</cp:coreProperties>
</file>